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41A-66C8-4974-BA41-41B819E3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2E1-35F5-4231-8E63-A46ABE58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8EA-6C27-4594-90BE-7D20ABBD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2BC-A4A5-405C-B885-CA7E39F2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3681-FC13-40D1-8056-138E4030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427-CE35-4B14-9071-BA623519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0293-E264-4830-B809-948F9520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E24B-4437-4E7B-A110-BD665219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CC3-FAAC-4838-9CD2-238FC055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D10-9D0C-45E6-892C-C4933EE5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865B-0752-4A99-9BEC-06E2E604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766-209E-4CE0-B249-43F10CFD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F5AC-9541-4EB3-9AF6-9AD25A231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676520"/>
            <a:ext cx="1981080" cy="1981080"/>
          </a:xfrm>
          <a:prstGeom prst="ellipse">
            <a:avLst/>
          </a:prstGeom>
          <a:noFill/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057400"/>
            <a:ext cx="79246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taneous Localization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 (SL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1"/>
                </a:solidFill>
                <a:latin typeface="Arial"/>
              </a:rPr>
              <a:t>Lecture 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59680" y="0"/>
            <a:ext cx="1984320" cy="1017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2160" y="69840"/>
            <a:ext cx="127944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SLAM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143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Step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752480"/>
            <a:ext cx="8610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From a single 180 degree scan (SICK laser), deter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The number of landmarks in a s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The center of each land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For i = 1 to the number of landmarks in a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If current landmark is the first observed landmark (i.e. # states=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Add x and y coordinate of new landmark to state v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Increase the size of all matrices (i.e. A is now a 5x5 matri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Update state and covariance matr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600200"/>
            <a:ext cx="99036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643040" y="4194000"/>
                <a:ext cx="430056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ange</m:t>
                    </m:r>
                    <m:r>
                      <m:rPr>
                        <m:lit/>
                        <m:nor/>
                      </m:rPr>
                      <m:t xml:space="preserve">*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611360" y="4648320"/>
                <a:ext cx="41799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ange</m:t>
                    </m:r>
                    <m:r>
                      <m:rPr>
                        <m:lit/>
                        <m:nor/>
                      </m:rPr>
                      <m:t xml:space="preserve">*sin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574640" y="5797440"/>
                <a:ext cx="41403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xes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:,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es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:,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innov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st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Pe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6019920" y="580392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here innov = actual measurement – predicted measurement (from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5791320"/>
            <a:ext cx="2666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SLAM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143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Step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752480"/>
            <a:ext cx="8610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For i = 1 to the number of landmarks in a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If current landmark is NOT the first observed landmark (i.e. # states&gt;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Estimate position of ob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Compute distance between observation and all landmarks already incorporated into state v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Find landmark which is closest to ob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If landmark is within 1 meter of observation, assume it is the same landm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Otherwise add observation as new landm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</a:rPr>
              <a:t>Updat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600200"/>
            <a:ext cx="99036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00200" y="2819520"/>
                <a:ext cx="43005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ange</m:t>
                    </m:r>
                    <m:r>
                      <m:rPr>
                        <m:lit/>
                        <m:nor/>
                      </m:rPr>
                      <m:t xml:space="preserve">*cos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11360" y="3276720"/>
                <a:ext cx="41799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ange</m:t>
                    </m:r>
                    <m:r>
                      <m:rPr>
                        <m:lit/>
                        <m:nor/>
                      </m:rPr>
                      <m:t xml:space="preserve">*sin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828800" y="5721480"/>
                <a:ext cx="41403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xes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:,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es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:,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innov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st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Pe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172200" y="572760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here innov = actual measurement – predicted measurement (from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5715000"/>
            <a:ext cx="26672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SLAM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28600" y="5410080"/>
                <a:ext cx="37339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28600" y="1143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Derive vehicl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ranslating our model to the laser point and differenti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600200"/>
            <a:ext cx="99036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85800" y="2286000"/>
                <a:ext cx="2895480" cy="20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L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an</m:t>
                              </m:r>
                              <m:r>
                                <m:t xml:space="preserve">α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333680" cy="3009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765680" y="5383080"/>
                <a:ext cx="426240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φ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φ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4114800" y="5715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15000" y="4687920"/>
            <a:ext cx="3124080" cy="217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SLAM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69880" y="2097000"/>
                <a:ext cx="8232840" cy="25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Δ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v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Δt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tan</m:t>
                              </m:r>
                              <m:r>
                                <m:t xml:space="preserve">α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Δ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v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  <m:r>
                                <m:t xml:space="preserve">+</m:t>
                              </m:r>
                              <m:r>
                                <m:t xml:space="preserve">Δt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tan</m:t>
                              </m:r>
                              <m:r>
                                <m:t xml:space="preserve">α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Δt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tan</m:t>
                              </m:r>
                              <m:r>
                                <m:t xml:space="preserve">α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228600" y="1143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752480"/>
            <a:ext cx="4800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he vehicle model in discrete tim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he velocity is measured with an encoder at the back wheel, thus v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600200"/>
            <a:ext cx="99036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147680" y="5365800"/>
                <a:ext cx="237168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SLAM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52280" y="4413240"/>
                <a:ext cx="8929800" cy="22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φ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φ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φ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Δ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v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Δt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tan</m:t>
                              </m:r>
                              <m:r>
                                <m:t xml:space="preserve">α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Δ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v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Δt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tan</m:t>
                              </m:r>
                              <m:r>
                                <m:t xml:space="preserve">α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28600" y="1143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752480"/>
            <a:ext cx="5638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alculate the Jacobian (</a:t>
            </a:r>
            <a:r>
              <a:rPr b="0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f/</a:t>
            </a:r>
            <a:r>
              <a:rPr b="0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600200"/>
            <a:ext cx="99036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219320" y="2209680"/>
                <a:ext cx="60958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Δ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v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Δt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tan</m:t>
                              </m:r>
                              <m:r>
                                <m:t xml:space="preserve">α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Δ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v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  <m:r>
                                <m:t xml:space="preserve">+</m:t>
                              </m:r>
                              <m:r>
                                <m:t xml:space="preserve">Δt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tan</m:t>
                              </m:r>
                              <m:r>
                                <m:t xml:space="preserve">α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Δt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tan</m:t>
                              </m:r>
                              <m:r>
                                <m:t xml:space="preserve">α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SLAM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143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Derive senso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where x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and y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are the landmark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99036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74560" y="2344680"/>
                <a:ext cx="4835520" cy="18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v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v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v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v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φ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4290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SLAM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143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alculate the Jacobian (</a:t>
            </a:r>
            <a:r>
              <a:rPr b="0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h/</a:t>
            </a:r>
            <a:r>
              <a:rPr b="0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600200"/>
            <a:ext cx="99036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838080" y="2209680"/>
                <a:ext cx="4496040" cy="17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β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v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v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v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v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φ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85800" y="4187880"/>
                <a:ext cx="6553080" cy="17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φ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φ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v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r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v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r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v</m:t>
                                      </m:r>
                                    </m:sub>
                                  </m:sSub>
                                </m:num>
                                <m:den>
                                  <m:sSup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v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sSup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895480" y="6095880"/>
                <a:ext cx="2664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905120" y="62326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SLAM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06600" y="4191120"/>
                <a:ext cx="8232480" cy="25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Δ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v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Δt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tan</m:t>
                              </m:r>
                              <m:r>
                                <m:t xml:space="preserve">α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Δ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v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  <m:r>
                                <m:t xml:space="preserve">+</m:t>
                              </m:r>
                              <m:r>
                                <m:t xml:space="preserve">Δt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tan</m:t>
                              </m:r>
                              <m:r>
                                <m:t xml:space="preserve">α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φ</m:t>
                              </m:r>
                              <m:r>
                                <m:t xml:space="preserve">−</m:t>
                              </m:r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Δt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tan</m:t>
                              </m:r>
                              <m:r>
                                <m:t xml:space="preserve">α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28600" y="1143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Step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nitialize state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tarting from t(0), make first prediction of where vehicle will be at t(0 + </a:t>
            </a:r>
            <a:r>
              <a:rPr b="0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600200"/>
            <a:ext cx="99036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798720" y="1676520"/>
                <a:ext cx="19893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SLAM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286000" y="6172200"/>
                <a:ext cx="3581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s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WQ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228600" y="1143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Step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752480"/>
            <a:ext cx="76197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nitialize covariance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nitialize Q and W mat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alculate prediction for covariance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600200"/>
            <a:ext cx="99036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648320" y="1523880"/>
                <a:ext cx="316548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0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447920" y="2286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itial estimates for x,y could be 0.1 meters off while the angle could be 15 degrees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286000"/>
            <a:ext cx="26672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914400" y="4038480"/>
                <a:ext cx="307188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0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181480" y="3962520"/>
                <a:ext cx="2286000" cy="16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SLAM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143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Step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752480"/>
            <a:ext cx="8610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heck to see if new velocity and steering measurements ar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If so, then update v</a:t>
            </a:r>
            <a:r>
              <a:rPr b="0" lang="en-US" sz="1800" spc="-1" strike="noStrike" baseline="-25000">
                <a:solidFill>
                  <a:srgbClr val="00008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8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 before next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If not, then use previous measurements for next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Check to see if a new laser scan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If so, then move to step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If not, then move to next iteration (i.e. t + </a:t>
            </a:r>
            <a:r>
              <a:rPr b="0" lang="en-US" sz="1800" spc="-1" strike="noStrike">
                <a:solidFill>
                  <a:srgbClr val="00008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600200"/>
            <a:ext cx="99036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011320" y="2514600"/>
                <a:ext cx="184464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21:44:30Z</dcterms:created>
  <dc:creator>weg22</dc:creator>
  <dc:description/>
  <dc:language>en-US</dc:language>
  <cp:lastModifiedBy>weg</cp:lastModifiedBy>
  <dcterms:modified xsi:type="dcterms:W3CDTF">2006-09-11T15:53:07Z</dcterms:modified>
  <cp:revision>881</cp:revision>
  <dc:subject/>
  <dc:title>Slide 1</dc:title>
</cp:coreProperties>
</file>