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485-BAF4-434D-9724-D2DFCED3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54B-4EDF-4E50-9456-4E3B5598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572-A422-4AA4-AC49-AD1A47F8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4E5-87BA-40C9-AF3F-52EE7169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5E0-F835-4B4B-8E3D-CAF007B8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92A-6561-4276-9BA6-7CA95BCB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0BD-52D8-4998-9030-FAE25CDA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DC5-9A07-4231-8349-FC0F4E8A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15B-E742-497C-BF6C-EAD04224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C42-C1FC-4061-8C46-B7688448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30FF-52E2-42E6-B992-63E270E1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9C7-AEEE-4818-A9E2-478AB84F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9F0A-C79B-47D6-907C-12D275C8C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676520"/>
            <a:ext cx="1981080" cy="1981080"/>
          </a:xfrm>
          <a:prstGeom prst="ellipse">
            <a:avLst/>
          </a:prstGeom>
          <a:noFill/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057400"/>
            <a:ext cx="79246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taneous Localization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(SL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1"/>
                </a:solidFill>
                <a:latin typeface="Arial"/>
              </a:rPr>
              <a:t>Lecture 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59680" y="0"/>
            <a:ext cx="1984320" cy="1017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2160" y="69840"/>
            <a:ext cx="127944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Non-linear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37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Kalm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828800"/>
            <a:ext cx="190476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9051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Limited to a linear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 non-linearity in a system can be associated with either the process model or the observation model (or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352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Extended Kalm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3809880"/>
            <a:ext cx="320040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88620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rocess and observation models can both be non-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where f and h are non-linear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90720" y="4529160"/>
                <a:ext cx="449568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xtended Kalman Fi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523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Noise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981080"/>
            <a:ext cx="320040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057400"/>
            <a:ext cx="8534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 practice, one does not know the noise values w(k) and v(k) at every time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stead, the state and measurement vector are approximated without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where         is some a posteriori estimate of th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286000" y="3660840"/>
                <a:ext cx="34862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523880" y="4924440"/>
                <a:ext cx="519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K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23623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o estimate a non-linear process, we need to linearize system at the curren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86160" y="1298520"/>
                <a:ext cx="348588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371600" y="3176640"/>
                <a:ext cx="62704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Ww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v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1371600" y="4267080"/>
            <a:ext cx="624852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426708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: actual state and measurement vectors</a:t>
            </a:r>
            <a:br>
              <a:rPr sz="1800"/>
            </a:b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: approximate state and measurement vectors                         : a posteriori estimate of the state at step k                               : process and measurement noise                                            : Jacobian matrix of partial derivatives of f w.r.t. x                     : Jacobian matrix of partial derivatives of f w.r.t. w                    : Jacobian matrix of partial derivatives of h w.r.t. x                    : Jacobian matrix of partial derivatives of h w.r.t.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6095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447920" y="4343400"/>
                <a:ext cx="9903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428840" y="4594320"/>
                <a:ext cx="10303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676520" y="4876920"/>
                <a:ext cx="4953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419120" y="5181480"/>
                <a:ext cx="10112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5484960"/>
                <a:ext cx="23832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779480" y="5707080"/>
                <a:ext cx="2779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24040" y="5899320"/>
                <a:ext cx="2984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52480" y="6240600"/>
                <a:ext cx="2383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K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Let’s define new notations for the prediction and measurement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066680" y="1752480"/>
                <a:ext cx="2654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86400" y="1778040"/>
                <a:ext cx="262548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28600" y="22860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herefore, we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09480" y="2743200"/>
                <a:ext cx="47721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04920" y="37339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(k) and </a:t>
            </a:r>
            <a:r>
              <a:rPr b="0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(k) represent new noise v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791320" y="3429000"/>
            <a:ext cx="3047760" cy="990360"/>
            <a:chOff x="5791320" y="3429000"/>
            <a:chExt cx="3047760" cy="990360"/>
          </a:xfrm>
        </p:grpSpPr>
        <p:sp>
          <p:nvSpPr>
            <p:cNvPr id="206" name=""/>
            <p:cNvSpPr/>
            <p:nvPr/>
          </p:nvSpPr>
          <p:spPr>
            <a:xfrm>
              <a:off x="5791320" y="3429000"/>
              <a:ext cx="304776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867280" y="3504960"/>
                  <a:ext cx="2852280" cy="3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ε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WQ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W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5943600" y="3962160"/>
                  <a:ext cx="270468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η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VR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9" name=""/>
          <p:cNvSpPr/>
          <p:nvPr/>
        </p:nvSpPr>
        <p:spPr>
          <a:xfrm>
            <a:off x="304920" y="4648320"/>
            <a:ext cx="883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he above equations are linear and closely resemble the difference equations from the discrete KF.  Therefore, we could use a 2</a:t>
            </a:r>
            <a:r>
              <a:rPr b="0" lang="en-US" sz="2000" spc="-1" strike="noStrike" baseline="30000">
                <a:solidFill>
                  <a:srgbClr val="00008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Kalman filter to estimate the predictio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5694480"/>
                <a:ext cx="5562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43000" y="6329520"/>
                <a:ext cx="26542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 flipH="1">
            <a:off x="228240" y="19810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981080"/>
            <a:ext cx="0" cy="457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655308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577044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update equ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6324480"/>
            <a:ext cx="6858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6324480"/>
            <a:ext cx="41907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is is what we are trying to fin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K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Rearranging the predicted error estimate y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85800" y="1828800"/>
                <a:ext cx="2654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581280" y="1905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876920" y="1828800"/>
                <a:ext cx="26542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228600" y="24382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lugging in from the previous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09480" y="2976480"/>
                <a:ext cx="30495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38098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849920" y="2971800"/>
                <a:ext cx="40654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4724280" y="2895480"/>
            <a:ext cx="4267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37339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he equation above can now be used in the measurement update in EK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K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37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828800"/>
            <a:ext cx="152388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19051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redicte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redicted estimate co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505320" y="1917720"/>
                <a:ext cx="3535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267080" y="2271600"/>
                <a:ext cx="487692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304920" y="4952880"/>
            <a:ext cx="861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Optimal Kalman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Updated stat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Updated estimate co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4343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800600"/>
            <a:ext cx="114300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849400" y="3362400"/>
                <a:ext cx="23274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397320" y="3724200"/>
                <a:ext cx="56973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549600" y="4941720"/>
                <a:ext cx="38577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200480" y="5340240"/>
                <a:ext cx="33433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57600" y="5702400"/>
                <a:ext cx="39909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22860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3276720"/>
            <a:ext cx="175248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3526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novation co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3352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ere H is the senso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K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1219320"/>
            <a:ext cx="419112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1752480"/>
            <a:ext cx="4114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he state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he error covariance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1676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04920" y="3048120"/>
                <a:ext cx="40384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228600" y="12333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3657600"/>
            <a:ext cx="472464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43400" y="4191120"/>
            <a:ext cx="46483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Kalman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estimate with measurement z(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error co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411480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43400" y="3672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tion and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344840" y="4579920"/>
                <a:ext cx="4680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064120" y="5388120"/>
                <a:ext cx="32828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889520" y="6156360"/>
                <a:ext cx="35812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4343400" y="2286000"/>
            <a:ext cx="22096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53080" y="2286000"/>
            <a:ext cx="0" cy="13716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5257800"/>
            <a:ext cx="22096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057400" y="3580920"/>
            <a:ext cx="0" cy="16765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28600" y="5715000"/>
            <a:ext cx="2666880" cy="838080"/>
            <a:chOff x="228600" y="5715000"/>
            <a:chExt cx="2666880" cy="838080"/>
          </a:xfrm>
        </p:grpSpPr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304920" y="6183360"/>
                  <a:ext cx="91440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1647720" y="6165720"/>
                  <a:ext cx="101916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228600" y="57150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itial estimates f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5280" y="6110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" y="5715000"/>
              <a:ext cx="2438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 flipV="1">
            <a:off x="1143000" y="3580920"/>
            <a:ext cx="0" cy="2133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81200" y="2133720"/>
                <a:ext cx="28000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7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179856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A EKF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90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n Examp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505320" cy="34624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Simple Robot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Kinemat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43400" y="2514600"/>
            <a:ext cx="297180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495680" y="2743200"/>
                <a:ext cx="157824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6934320" y="3429000"/>
            <a:ext cx="1981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ine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00800" y="2819520"/>
            <a:ext cx="152280" cy="1752480"/>
          </a:xfrm>
          <a:custGeom>
            <a:avLst/>
            <a:gdLst>
              <a:gd name="textAreaLeft" fmla="*/ 0 w 152280"/>
              <a:gd name="textAreaRight" fmla="*/ 5508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Simple Robot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1295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Kinemat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1752480"/>
            <a:ext cx="289548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85800" y="1828800"/>
                <a:ext cx="15778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φ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038480" y="1752480"/>
                <a:ext cx="4724640" cy="19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θ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Δ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V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Δ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V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Δ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V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5562720" y="1752480"/>
            <a:ext cx="3200400" cy="190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1295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(x,u,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23623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4419720"/>
            <a:ext cx="190512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4495680"/>
            <a:ext cx="4572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System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Velocity (assumed constant, vel=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Steering angle (</a:t>
            </a:r>
            <a:r>
              <a:rPr b="0" lang="en-US" sz="1800" spc="-1" strike="noStrike">
                <a:solidFill>
                  <a:srgbClr val="00008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 is fixed and equal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L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10 iterations (N=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3581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Discrete Kalman Fi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37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828800"/>
            <a:ext cx="152388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9051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redicte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redicted estimate co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276720" y="1841400"/>
                <a:ext cx="38685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518000" y="2271600"/>
                <a:ext cx="40165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04920" y="4952880"/>
            <a:ext cx="861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Optimal Kalman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Updated stat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Updated estimate co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343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800600"/>
            <a:ext cx="114300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540160" y="3289320"/>
                <a:ext cx="3365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H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807000" y="3719520"/>
                <a:ext cx="3628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710160" y="4938840"/>
                <a:ext cx="3528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HS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048200" y="5270400"/>
                <a:ext cx="39528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570560" y="5651640"/>
                <a:ext cx="4116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2860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276720"/>
            <a:ext cx="175248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3526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Innovation co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0"/>
            <a:ext cx="1600200" cy="13716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bserv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533520" y="2441520"/>
                <a:ext cx="29718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228600" y="137160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Measurements are taken from an overhead camera, and thus x, y, and </a:t>
            </a:r>
            <a:r>
              <a:rPr b="0" lang="en-US" sz="2000" spc="-1" strike="noStrike">
                <a:solidFill>
                  <a:srgbClr val="00008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can be measured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251784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5257800" y="1981080"/>
                <a:ext cx="262584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θ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θ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80880" y="3637080"/>
            <a:ext cx="3810240" cy="2997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724280" y="3629160"/>
            <a:ext cx="38862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KF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1676520"/>
            <a:ext cx="152388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609480" y="1893960"/>
                <a:ext cx="44960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09480" y="2438280"/>
                <a:ext cx="5867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5410080" y="1954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rom robo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2895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2895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28600" y="4572000"/>
                <a:ext cx="43434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θ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θ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θ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V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876920" y="4530600"/>
                <a:ext cx="3924360" cy="22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5943600" y="3429000"/>
            <a:ext cx="3048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ed to calculate Jacobia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28600" y="3048120"/>
                <a:ext cx="5029200" cy="14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Δ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V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Δ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V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θ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Δ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V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7596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KF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1219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Kalman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1676520"/>
            <a:ext cx="198108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23880" y="1905120"/>
                <a:ext cx="5838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1905120" y="23623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666720" y="4419720"/>
                <a:ext cx="3772080" cy="20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θ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θ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x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y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θ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800600" y="4299120"/>
                <a:ext cx="3605040" cy="21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2666880" y="23623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3623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23623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38680" y="23623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685800" y="2743200"/>
                <a:ext cx="365760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θ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θ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5791320" y="3124080"/>
            <a:ext cx="30477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eed to calculate Jacobia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43400" y="33526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2514600"/>
            <a:ext cx="11430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EKF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" y="1219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Measurement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1676520"/>
            <a:ext cx="304776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838080" y="1905120"/>
                <a:ext cx="46864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882720" y="2575080"/>
                <a:ext cx="4467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705200" y="3341520"/>
            <a:ext cx="4286520" cy="3364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228600" y="3328920"/>
            <a:ext cx="426708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Discrete Kalman Fi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219320"/>
            <a:ext cx="419112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4114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he state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the error covariance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676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85800" y="2971800"/>
                <a:ext cx="355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228600" y="123336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267080" y="3657600"/>
            <a:ext cx="4724280" cy="3048120"/>
            <a:chOff x="4267080" y="3657600"/>
            <a:chExt cx="4724280" cy="3048120"/>
          </a:xfrm>
        </p:grpSpPr>
        <p:sp>
          <p:nvSpPr>
            <p:cNvPr id="74" name=""/>
            <p:cNvSpPr/>
            <p:nvPr/>
          </p:nvSpPr>
          <p:spPr>
            <a:xfrm>
              <a:off x="4267080" y="3657600"/>
              <a:ext cx="4724280" cy="3048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4191120"/>
              <a:ext cx="464796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ute the Kalman g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date estimate with measurement z(k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date error covari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114800"/>
              <a:ext cx="47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3400" y="3672000"/>
              <a:ext cx="388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bservation and Up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4876560" y="4572000"/>
                  <a:ext cx="348156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sSup>
                        <m:e>
                          <m:r>
                            <m:t xml:space="preserve">H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HP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sSup>
                        <m:e>
                          <m:r>
                            <m:t xml:space="preserve">H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R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4876560" y="5375520"/>
                  <a:ext cx="403884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k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[</m:t>
                      </m:r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H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k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4876560" y="6172200"/>
                  <a:ext cx="3659400" cy="40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−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H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" name=""/>
          <p:cNvSpPr/>
          <p:nvPr/>
        </p:nvSpPr>
        <p:spPr>
          <a:xfrm>
            <a:off x="4343400" y="2286000"/>
            <a:ext cx="22096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2286000"/>
            <a:ext cx="0" cy="13716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5257800"/>
            <a:ext cx="22096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57400" y="3580920"/>
            <a:ext cx="0" cy="16765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6" name=""/>
          <p:cNvGrpSpPr/>
          <p:nvPr/>
        </p:nvGrpSpPr>
        <p:grpSpPr>
          <a:xfrm>
            <a:off x="228600" y="5715000"/>
            <a:ext cx="2666880" cy="838080"/>
            <a:chOff x="228600" y="5715000"/>
            <a:chExt cx="2666880" cy="838080"/>
          </a:xfrm>
        </p:grpSpPr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304920" y="6183360"/>
                  <a:ext cx="91440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1647720" y="6165720"/>
                  <a:ext cx="101916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9" name=""/>
            <p:cNvSpPr/>
            <p:nvPr/>
          </p:nvSpPr>
          <p:spPr>
            <a:xfrm>
              <a:off x="228600" y="57150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itial estimates f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95280" y="61102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600" y="5715000"/>
              <a:ext cx="2438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 flipV="1">
            <a:off x="1143000" y="3580920"/>
            <a:ext cx="0" cy="2133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62120" y="2133720"/>
                <a:ext cx="34290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u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52280" y="0"/>
            <a:ext cx="1600200" cy="13716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Another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981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0481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1148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5181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1722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1219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Kinemat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676520"/>
            <a:ext cx="289548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86200" y="1752480"/>
                <a:ext cx="34146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Δ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Δt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78280" y="2666880"/>
                <a:ext cx="2446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Δ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" name=""/>
          <p:cNvGrpSpPr/>
          <p:nvPr/>
        </p:nvGrpSpPr>
        <p:grpSpPr>
          <a:xfrm>
            <a:off x="1752480" y="1752480"/>
            <a:ext cx="1219320" cy="862920"/>
            <a:chOff x="1752480" y="1752480"/>
            <a:chExt cx="1219320" cy="862920"/>
          </a:xfrm>
        </p:grpSpPr>
        <p:sp>
          <p:nvSpPr>
            <p:cNvPr id="114" name=""/>
            <p:cNvSpPr/>
            <p:nvPr/>
          </p:nvSpPr>
          <p:spPr>
            <a:xfrm>
              <a:off x="1752480" y="175248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1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52480" y="220968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52480" y="1981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657600" y="32767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Position (from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733920"/>
            <a:ext cx="297180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43400" y="3886200"/>
            <a:ext cx="3633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Process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13557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812960"/>
            <a:ext cx="2209680" cy="0"/>
          </a:xfrm>
          <a:prstGeom prst="line">
            <a:avLst/>
          </a:prstGeom>
          <a:ln w="9360">
            <a:solidFill>
              <a:srgbClr val="000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33520" y="1816200"/>
                <a:ext cx="50292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Δ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Δt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33520" y="2743200"/>
                <a:ext cx="4024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a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609480" y="37018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143000" y="4876920"/>
                <a:ext cx="5486400" cy="14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Δt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sSup>
                                    <m:e>
                                      <m:r>
                                        <m:t xml:space="preserve">Δ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Δt</m:t>
                              </m:r>
                            </m:e>
                          </m:mr>
                        </m:m>
                      </m:e>
                    </m:d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00200" y="3413160"/>
                <a:ext cx="28605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724280" y="3701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562720" y="3413160"/>
                <a:ext cx="20145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685800" y="4572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Observ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8240" y="1293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1"/>
                </a:solidFill>
                <a:latin typeface="Arial"/>
              </a:rPr>
              <a:t>Observ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44400" y="2073240"/>
                <a:ext cx="28306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28600" y="1755720"/>
            <a:ext cx="26668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204156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ere                        because z is a measurement of the height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876920" y="2055960"/>
                <a:ext cx="129528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80880" y="38862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z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886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[ 127.0      115.3       110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43434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72.4        50.7           0.3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3733920"/>
            <a:ext cx="3886200" cy="1143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44481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Kalman Fi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267080" y="3048120"/>
                <a:ext cx="49039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880" y="4646520"/>
                <a:ext cx="48006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7200" y="5334120"/>
                <a:ext cx="5105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H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80880" y="5992920"/>
                <a:ext cx="48006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92040" y="1752480"/>
                <a:ext cx="3189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191120" y="1676520"/>
                <a:ext cx="203832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0880" y="3049560"/>
                <a:ext cx="365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∗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52280" y="129384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1"/>
                </a:solidFill>
                <a:latin typeface="Arial"/>
              </a:rPr>
              <a:t>Initial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259092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1"/>
                </a:solidFill>
                <a:latin typeface="Arial"/>
              </a:rPr>
              <a:t>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4038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1"/>
                </a:solidFill>
                <a:latin typeface="Arial"/>
              </a:rPr>
              <a:t>Observation and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2438280"/>
            <a:ext cx="76212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514600" y="2514600"/>
            <a:ext cx="53352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162920" y="1371600"/>
            <a:ext cx="1371600" cy="1143000"/>
            <a:chOff x="7162920" y="1371600"/>
            <a:chExt cx="1371600" cy="1143000"/>
          </a:xfrm>
        </p:grpSpPr>
        <p:sp>
          <p:nvSpPr>
            <p:cNvPr id="159" name=""/>
            <p:cNvSpPr/>
            <p:nvPr/>
          </p:nvSpPr>
          <p:spPr>
            <a:xfrm>
              <a:off x="7162920" y="1371600"/>
              <a:ext cx="137160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7391520" y="1523880"/>
                  <a:ext cx="102384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Δt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90720"/>
            <a:ext cx="845820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52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"/>
              </a:rPr>
              <a:t>Kalman Fi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93892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Non-linear Syste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21:44:30Z</dcterms:created>
  <dc:creator>weg22</dc:creator>
  <dc:description/>
  <dc:language>en-US</dc:language>
  <cp:lastModifiedBy>weg22</cp:lastModifiedBy>
  <dcterms:modified xsi:type="dcterms:W3CDTF">2006-11-20T12:39:35Z</dcterms:modified>
  <cp:revision>846</cp:revision>
  <dc:subject/>
  <dc:title>Slide 1</dc:title>
</cp:coreProperties>
</file>